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3FCA-3CC0-462E-B36B-50F684FC1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2CFD-7489-4C66-975E-A3D709094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607D-13CE-43AA-9974-058FE5064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2269-8E73-4586-AF36-C4D874F59A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28A4-663D-4D52-AAE2-F338FD1A34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7055-8798-4D93-B362-D76F1150F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70BC-5397-4707-84F2-8EEBE56D2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63D2-5290-4320-8D52-E3BDA0092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E08A-D763-4270-8FFD-8D0D99BBF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B1EB-4004-4D80-9245-CE8BD8DCE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9909-8F31-4416-91EA-B3A32AEE2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2504-1DA6-42A1-AAC0-935871FE8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204C-9DC7-447D-A374-AD33C75E29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youtu.be/PRIlnUAKwDY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C957-B882-4ABD-97F9-AD162505AE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7720" y="2742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 -Aug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 Work wit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notice about the student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providing feedback what was discussed at your 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you decide on the criteria you were going to use to give feed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 me an example of feedback provided that you feel is very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did you already know about the math or about the feedback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hadn’t you thought o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are your next ste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st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are the similarities/differences regarding feedback in the moment vs over ti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90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9000"/>
          </a:bodyPr>
          <a:p>
            <a:pPr lvl="3" marL="1424160" indent="-203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focus on understanding the multiplicative relations to compare and predict as well as unitizing concepts in 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explore and consider guidelines when providing effective feedback for the purpose of moving students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understand the relationship between learning goals and effectiv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951F-73D9-43BE-B819-B65A17AC33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E2F4-3079-4B35-9985-0737AA2002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iving Effective Feedback 3 –Unhelpful and Helpful feedb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youtu.be/PRIlnUAKw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le Group Discu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 back in life when you were given feedb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did it look like? Sound like? Feel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as it effective or no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 you remember what type of impact it had on you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d it help you move forward in your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y Feedback Practic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1241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ive One Take O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a feedback strategy that you used and found effe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edback strategy you like and add it to your reper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nother partn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eedback Researc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ead of the Curve by Anne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Give Effective Feedback to your Students by Susan M. Brook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: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 Proble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99"/>
                </a:solidFill>
                <a:latin typeface="Arial"/>
              </a:rPr>
              <a:t>Cookie Problem 7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4 boxes of cookies cost $10.  How much should18 boxes c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99"/>
                </a:solidFill>
                <a:latin typeface="Arial"/>
              </a:rPr>
              <a:t>Keepin’ Ta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9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 student council collects aluminum pop tabs to raise money to purchase a wheelchair.  A company buys the pop tabs for $0.88 per kil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1267 pop tabs have a mass of one pound, how many pop tabs are needed to purchase a wheelchair worth $15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how your work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nt: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 kilogram = 2.2 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different samples and compare students’ Proportional Reasoning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Paul Alves</cp:lastModifiedBy>
  <dcterms:modified xsi:type="dcterms:W3CDTF">2011-08-16T21:13:32Z</dcterms:modified>
  <cp:revision>19</cp:revision>
  <dc:subject/>
  <dc:title>&lt;Title&gt;</dc:title>
</cp:coreProperties>
</file>